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6637"/>
        <c:axId val="76525601"/>
      </c:barChart>
      <c:catAx>
        <c:axId val="3456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5601"/>
        <c:crosses val="autoZero"/>
        <c:auto val="1"/>
        <c:lblAlgn val="ctr"/>
        <c:lblOffset val="100"/>
        <c:noMultiLvlLbl val="0"/>
      </c:catAx>
      <c:valAx>
        <c:axId val="76525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61E-FFC4-4F86-92F4-59CE5B7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979-E512-4D9D-BEF6-0E8F28B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CAB-F3A4-41D4-8F87-7E0F0BFF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1D4-79E3-4498-9CE2-A269FF5B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A51-652C-45CA-A2EC-929D2CE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F7C-6002-4F54-A5BF-ECC8D5C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F7A-BA89-4B25-B978-3C3CB16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95F-56F3-4F87-AD89-3568148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5D9-BEB5-4578-980E-35E144A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999-5F5B-415C-9B99-4E0AC8E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859-C9A5-4854-8589-2C9FF5F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D32-8C7F-4D13-B509-C716471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F7D9-E644-46D7-9A7E-38873CDE1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