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66129"/>
        <c:axId val="7906633"/>
      </c:barChart>
      <c:catAx>
        <c:axId val="48466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6633"/>
        <c:crosses val="autoZero"/>
        <c:auto val="1"/>
        <c:lblAlgn val="ctr"/>
        <c:lblOffset val="100"/>
        <c:noMultiLvlLbl val="0"/>
      </c:catAx>
      <c:valAx>
        <c:axId val="7906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66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D57-2FCC-4318-8FB0-8AD73521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0CD-4946-44A3-AB1F-F1EFA0E7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2BE-558C-4E99-9493-E350740D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5F7-4C89-485E-BC07-DFC7985F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8E0-7FB0-4020-810F-627E5F71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C4C-AEA3-45C7-8DE0-8AB4C526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E68-C6F6-470B-A301-A655F7BD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186-4DBB-4DDD-8A55-6CDE3280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39C-7097-45CD-AE3F-1BC9F23B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174-FAA4-465D-AB54-7656801F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114-02F6-4492-92EE-AC7331FD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47B-DB88-4FEF-A056-66C8EFD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4C92F-3A2A-43F7-9CCD-53E9BD828A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