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40607"/>
        <c:axId val="82240868"/>
      </c:barChart>
      <c:catAx>
        <c:axId val="95040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40868"/>
        <c:crosses val="autoZero"/>
        <c:auto val="1"/>
        <c:lblAlgn val="ctr"/>
        <c:lblOffset val="100"/>
        <c:noMultiLvlLbl val="0"/>
      </c:catAx>
      <c:valAx>
        <c:axId val="82240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40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8E1-476D-4389-BACC-DB84CC27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C3A-20DA-4646-9F35-C0148E30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CD9-A218-4853-A546-E7DBF8C1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5E6-D988-4AE0-980B-9DB115B3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5DC-134F-473B-BC53-53140461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5C9-1C63-4A15-A094-5FC3219F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4CC-39D6-49F4-A750-274E98C3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28F-DC2E-4C3C-B5A4-4D29BB5B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9CA-B2D5-4FA5-BDF5-05F17EDF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5E1-B990-46C8-969E-89824518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DF9-228B-4C2C-815A-A598CA22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4FF-EC5C-4204-8D4F-394D5523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B708C-6612-4ACD-9679-4F446ECDD9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