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1042"/>
        <c:axId val="61945279"/>
      </c:barChart>
      <c:catAx>
        <c:axId val="69121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45279"/>
        <c:crosses val="autoZero"/>
        <c:auto val="1"/>
        <c:lblAlgn val="ctr"/>
        <c:lblOffset val="100"/>
        <c:noMultiLvlLbl val="0"/>
      </c:catAx>
      <c:valAx>
        <c:axId val="61945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1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04F-2925-4579-87C4-E5EA457F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AB5-30EC-451B-BC48-B97C0123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74E-3665-40C2-AC31-98A96A6A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37E-58BC-4CB8-98B9-25F2A29C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FAF-248A-487E-A4B3-7683BE79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D66-6AFD-4B8E-B341-16BAD7C5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A2B-EBA0-4E8E-8734-E8384972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5B9-AE69-43B2-BAD7-6C1875C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39B-FC1D-439B-85A3-E3CB2E1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71C-1EC2-4CB8-9CEF-92B5747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2DF-479B-44CC-89A3-D152463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ED3-974B-4EEC-BA2F-4DF8F8F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9AD14-0948-41F6-B070-D5FC6AABD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