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089506"/>
        <c:axId val="44657358"/>
      </c:barChart>
      <c:catAx>
        <c:axId val="96089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57358"/>
        <c:crosses val="autoZero"/>
        <c:auto val="1"/>
        <c:lblAlgn val="ctr"/>
        <c:lblOffset val="100"/>
        <c:noMultiLvlLbl val="0"/>
      </c:catAx>
      <c:valAx>
        <c:axId val="446573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89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EB0-F655-45B6-BB98-62311851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29C-980C-4F2A-8EE5-EC10581E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D4C-E664-4D06-BB7C-9D140976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210-4620-41FC-86D3-E3F381C9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91A-9218-4DEC-8B23-80CB48A8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0FA-5EC1-404C-BBFD-D591B684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373-80DE-4DEA-821C-AAFDD8E2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F27-7E48-434B-B3DC-6B0E2F74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210-8C64-459A-8BDC-42A8FE02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19A-C997-4F0E-8630-DABFB55B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187-4D1F-4A9D-B873-20A4191D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9B9-D658-4E22-8588-7022B985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1FB83-8D42-4058-A3D7-2CCD6A5D3B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