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8660450"/>
        <c:axId val="26263819"/>
      </c:barChart>
      <c:catAx>
        <c:axId val="6866045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6263819"/>
        <c:crosses val="autoZero"/>
        <c:auto val="1"/>
        <c:lblAlgn val="ctr"/>
        <c:lblOffset val="100"/>
        <c:noMultiLvlLbl val="0"/>
      </c:catAx>
      <c:valAx>
        <c:axId val="2626381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866045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4A982-513C-4897-B6E6-9A67538C6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75CA1-6F6D-4756-8875-2B358237C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F52F0-B44B-4E75-AEC7-F059691D3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603B5-FBC5-4515-A530-60CC86549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17634-F1C8-4E74-A83F-43D4841AC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BB121-33A0-49B6-9E01-4B59E9BC1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C8A8C-6AD3-49F6-A121-58D220B3A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CE6E3-6F3A-4B66-A99F-EA8036E5C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7D813-DE1E-4E5E-866D-3CCD3740B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3D057-2AC1-413B-B78F-F4A3F871A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D0EBB-B3A4-47C1-9B9E-3514DC1D1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44FB0-B3AF-4ECB-8ED0-08F26E4DE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EAFC6F-769E-45CD-A7A3-417C5565856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