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87384"/>
        <c:axId val="37429524"/>
      </c:barChart>
      <c:catAx>
        <c:axId val="77887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9524"/>
        <c:crosses val="autoZero"/>
        <c:auto val="1"/>
        <c:lblAlgn val="ctr"/>
        <c:lblOffset val="100"/>
        <c:noMultiLvlLbl val="0"/>
      </c:catAx>
      <c:valAx>
        <c:axId val="37429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87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C41-F58D-498D-B340-C7A5E60A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F1A-DDB4-4A98-B052-77624D12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CC8-164C-4E86-AC42-A07FC5DB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CE0-41AC-4C24-84A2-AB7EA064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711-ECC9-4956-838E-61FDB06F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C36-8FF3-4399-9C3E-48A82995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BAD-5B52-4240-88DC-AEA84735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480-10CF-44C3-BBAC-5FEB6E1F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9F4-9B23-4C20-97BF-9C116B7C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D0A-E691-4ADD-8D37-F7D67C4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A1A-C2AA-4646-B896-36B832C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83E-D621-486B-8D1C-B7FC4172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44376-434D-48D9-A2B8-86DE564BA4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