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95371"/>
        <c:axId val="90983903"/>
      </c:barChart>
      <c:catAx>
        <c:axId val="39695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83903"/>
        <c:crosses val="autoZero"/>
        <c:auto val="1"/>
        <c:lblAlgn val="ctr"/>
        <c:lblOffset val="100"/>
        <c:noMultiLvlLbl val="0"/>
      </c:catAx>
      <c:valAx>
        <c:axId val="90983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95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F32-815B-406A-9786-E8366F9E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41D-03D7-4393-8E1C-99ECF0E2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D41-7207-4E94-9E73-0BBFCC86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B3A-C6F1-45B9-B882-790526D3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1E3-05C5-4730-9C16-7AFD6CFD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8C0-8FA1-4DC6-B7EE-EEC3CC1B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B76-F326-45CA-BA52-FB22AD8F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8BE-DD3C-4E12-9A02-2A72E946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FD2-9838-43AC-B82A-AE3DE25B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A9E-7DC4-49D2-A9B9-8466D21A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95A-CC32-4867-A7F9-64F7F7C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F1C-F0E0-42C8-B217-F178F5C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A7E1B-6685-4A46-B1A8-071F486DAE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