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49451"/>
        <c:axId val="9123658"/>
      </c:barChart>
      <c:catAx>
        <c:axId val="95749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3658"/>
        <c:crosses val="autoZero"/>
        <c:auto val="1"/>
        <c:lblAlgn val="ctr"/>
        <c:lblOffset val="100"/>
        <c:noMultiLvlLbl val="0"/>
      </c:catAx>
      <c:valAx>
        <c:axId val="9123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49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A598-5764-4E16-B901-6969DC07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7A6-2B13-4FD8-8115-1802020E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7F6-9D98-4C55-8889-4BFCD115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313-A5CF-42BA-A1D7-0BD6E409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CEB-384F-42E6-9623-15C0483F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E70-9519-44ED-9F10-7DD5E231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166-6F18-423A-8B25-F2FF681D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AC3-534C-4A5A-B57C-C55DD6F7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1E8-BB88-4933-8919-11998B04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710-8360-4744-A261-774E40D7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DD4-3A6E-4A8C-88C3-DB8C7A5E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FCE-809C-476A-8C53-4FCF329A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2F733-B23B-46D3-88C6-D429F16F91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