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45556"/>
        <c:axId val="98139589"/>
      </c:barChart>
      <c:catAx>
        <c:axId val="53945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39589"/>
        <c:crosses val="autoZero"/>
        <c:auto val="1"/>
        <c:lblAlgn val="ctr"/>
        <c:lblOffset val="100"/>
        <c:noMultiLvlLbl val="0"/>
      </c:catAx>
      <c:valAx>
        <c:axId val="98139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45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2EDD-4D1C-44AE-97E5-E8E6159E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490-3F36-448A-84BB-3CE7DE12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2B8-DFCB-4283-9E62-ADBBC150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CCF9-7224-4FF3-A9A2-DAF942E7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1D0-9EAA-42E2-A00A-4860D43F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B460-4A47-45DC-B262-BF91CA78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31F-AF12-4316-A855-9EEAD5D1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E8C3-6C2C-49C9-B981-49C286FE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8CC-6CAB-4DE6-B97E-3A1E4F2B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465-2F5C-47DB-B58A-16AF0A2F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5EB-6C34-4712-9635-DACC0F53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79A-5BE4-4CB4-A5E2-BC793E00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9C0DD-ECDD-4306-BAE8-B6E6AAB79D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