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41797"/>
        <c:axId val="85671798"/>
      </c:barChart>
      <c:catAx>
        <c:axId val="82541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1798"/>
        <c:crosses val="autoZero"/>
        <c:auto val="1"/>
        <c:lblAlgn val="ctr"/>
        <c:lblOffset val="100"/>
        <c:noMultiLvlLbl val="0"/>
      </c:catAx>
      <c:valAx>
        <c:axId val="85671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41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CCE-AEB2-4D1F-B9F8-ECA3BA5F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989-C278-4E7E-BF51-D6B1741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E06-ECD5-48A4-A067-A1AA2A24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6C0-9AE8-4C34-8426-AAAF56CD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456-0BE4-4E5F-815B-B3FD6B4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D48-AB8E-4971-B48A-11DE55A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A10-68B4-43FC-8AEC-077E301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157-71BB-424D-84B0-E7730D5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5EF-CD02-495A-B906-F6D25094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C05-E157-42DB-82F0-39F5E7B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092-2115-412C-9A5B-035A8241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28B-7A4D-40F4-BF89-313DE57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2DFB6-D060-411A-8980-C1A298318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