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75536"/>
        <c:axId val="18315422"/>
      </c:barChart>
      <c:catAx>
        <c:axId val="55275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15422"/>
        <c:crosses val="autoZero"/>
        <c:auto val="1"/>
        <c:lblAlgn val="ctr"/>
        <c:lblOffset val="100"/>
        <c:noMultiLvlLbl val="0"/>
      </c:catAx>
      <c:valAx>
        <c:axId val="18315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75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3C1-21DA-4731-8E83-24E9FB03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6B5-7EEB-49E0-B0F0-2FE85D25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8B4-E297-462B-8945-646BE532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02F-BE22-4F69-89C4-60268E4F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EEA-3853-4916-BCB5-02049DF9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9AD-5BC6-48C1-A745-CE4012AE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93E-D936-4C57-9869-A84CCCB2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102-9D6E-4A93-B5BC-26D98C1A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A0B-E860-4C80-8BBF-2638A45C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5B6-8E98-4C91-9BB1-AD77100C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B4F-C202-4168-B149-E65A6BA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335-2A5E-471C-8671-ED70FD3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51F49-86F7-4437-8BB2-3F9B2A8A1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