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28425"/>
        <c:axId val="28093737"/>
      </c:barChart>
      <c:catAx>
        <c:axId val="51228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93737"/>
        <c:crosses val="autoZero"/>
        <c:auto val="1"/>
        <c:lblAlgn val="ctr"/>
        <c:lblOffset val="100"/>
        <c:noMultiLvlLbl val="0"/>
      </c:catAx>
      <c:valAx>
        <c:axId val="280937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28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E5A-3EE1-47C2-A7A5-CAE37571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2E5-E802-427A-8F7F-504728AB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B02-47D7-43CA-91E6-B8C8A700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5C5-24A6-491E-BFAA-F8F1600B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7C7-D15C-4566-B056-7F86859D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704F-CE6D-4443-B3E0-4CC38B35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45F-9429-4E84-93BF-3D5A28E3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556-5FDE-43B6-9454-D513D0D5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CC3-942C-4B2E-9B9F-F961ACC3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9A6-76D9-4821-92B7-1DF87BD7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A76-34B2-4145-94BC-11B55274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9AC1-7B01-4068-855F-1F479AFD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D08E3-F5CD-491B-8EE8-8842DEFE92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