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31051"/>
        <c:axId val="19105069"/>
      </c:barChart>
      <c:catAx>
        <c:axId val="96431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5069"/>
        <c:crosses val="autoZero"/>
        <c:auto val="1"/>
        <c:lblAlgn val="ctr"/>
        <c:lblOffset val="100"/>
        <c:noMultiLvlLbl val="0"/>
      </c:catAx>
      <c:valAx>
        <c:axId val="19105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1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155-6575-49CD-B552-461A8029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1FE-C9C9-4831-857E-D579D887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8D1-BDDD-48FC-B46A-2359E254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503-5128-4141-8896-84CCC97F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C45-15E1-4849-B264-20F5CEC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0C2-D22B-4C7C-9C5A-EBFBA2D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A59-2686-478B-BCE1-9B55FD0D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FD1-D0AD-4F2C-AD74-083E8FD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D57-9BD2-4839-9CD4-FECE9A1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C46-32B8-48E7-A439-9274E1B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48B-446D-4B5D-944B-99C352B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0E6-5B96-4025-8E94-F129128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93E5-518A-4F8D-B711-C2C73B9932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