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19389"/>
        <c:axId val="52902689"/>
      </c:barChart>
      <c:catAx>
        <c:axId val="42519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02689"/>
        <c:crosses val="autoZero"/>
        <c:auto val="1"/>
        <c:lblAlgn val="ctr"/>
        <c:lblOffset val="100"/>
        <c:noMultiLvlLbl val="0"/>
      </c:catAx>
      <c:valAx>
        <c:axId val="52902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9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178-3D09-46FF-8304-1E6592D2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F08-E045-4E46-B274-909B16A3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794-6448-4EFA-8802-5814D22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448-8EEC-40C9-80EA-38A250FB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5EF-982E-4876-9E3D-6C11EFFF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4C2-660E-4767-83DE-85AF9E9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B98-81E4-4685-815A-036D2D3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94F-FE9A-4F03-AD34-520EE4F8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8E9-1DF4-49DE-9434-1463FC6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68-6B97-4191-908F-F6017DE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E35-79AD-47A7-942D-B898C67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8F8-FA8C-4CA0-A39E-756DE36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487C-90B2-49EA-A848-B22922BE2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