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63759"/>
        <c:axId val="67103433"/>
      </c:barChart>
      <c:catAx>
        <c:axId val="82063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03433"/>
        <c:crosses val="autoZero"/>
        <c:auto val="1"/>
        <c:lblAlgn val="ctr"/>
        <c:lblOffset val="100"/>
        <c:noMultiLvlLbl val="0"/>
      </c:catAx>
      <c:valAx>
        <c:axId val="67103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63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4A9-9CF1-4973-B5F3-04ECCC91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A62-B0E0-4BCC-8C14-54BE1E9B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495-7417-4B0D-BF9D-11E61F65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2F2-269B-45D1-AF5C-29D5947A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FB3-8ABB-40AE-B94E-538E7E5D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397-910F-4E22-9B93-4A054E64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AB3-865B-4280-9A2A-614D675D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84A-B5A5-4D51-AFBB-C68F7C3B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BC7-0C12-436A-B908-BF6213D4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5C9-9217-4018-89A2-D07650F0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B1F-61A1-4B9A-B09D-A6EF09A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2CC-40C0-4835-9373-8E1C56B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C9309-AC7D-4078-AEDA-217E296458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