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05980"/>
        <c:axId val="51574834"/>
      </c:barChart>
      <c:catAx>
        <c:axId val="43305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74834"/>
        <c:crosses val="autoZero"/>
        <c:auto val="1"/>
        <c:lblAlgn val="ctr"/>
        <c:lblOffset val="100"/>
        <c:noMultiLvlLbl val="0"/>
      </c:catAx>
      <c:valAx>
        <c:axId val="51574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05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D71-E125-4CD7-A847-9E5E9439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90C-CE29-47B4-8093-8FBFCE84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C0F-14E9-431D-9DB8-C8CE2B24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EA6-16B2-4E7E-AA36-8D18B765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EAA-3D31-4060-A446-FCF19940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771-001B-4694-B501-CE1FB6DC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700-A5F3-4B56-82B6-EE060A2B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373-AC43-4FB5-8144-851C6E5A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4C2-E440-4A01-A628-240803EF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F46-D2F0-46BA-9040-A87A7DC4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FAB-C682-4BDC-8BBC-DA4A58ED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522-D764-47AC-B3FD-7B067074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16D4D-49CD-4EFB-9C04-78E224AD4E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