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0878"/>
        <c:axId val="40847024"/>
      </c:barChart>
      <c:catAx>
        <c:axId val="6660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47024"/>
        <c:crosses val="autoZero"/>
        <c:auto val="1"/>
        <c:lblAlgn val="ctr"/>
        <c:lblOffset val="100"/>
        <c:noMultiLvlLbl val="0"/>
      </c:catAx>
      <c:valAx>
        <c:axId val="40847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0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F2A-81DA-4AF6-8E08-DA07AF4E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E41-6588-456A-8192-0A211B11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E77-281C-4917-BB08-57C95110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D24-8A1C-4FC6-8C2B-89650FCC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FD4-51C3-4EFC-977F-6E382663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4C4-E0A2-423A-A707-ABAF0B05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DDE-0AE1-4815-B9D3-103762A0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52A-FE4A-49A3-AB9C-C9B7AD1A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868-1636-4F32-85D0-BB881C0D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FC8-D7C1-4E66-B102-D826FEE1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56A-A76C-4073-B824-C6E529CC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86C-9D92-4162-955C-9EF0A54F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AAA94-903B-4420-B441-E822095E6C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