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967395"/>
        <c:axId val="41250590"/>
      </c:barChart>
      <c:catAx>
        <c:axId val="459673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250590"/>
        <c:crosses val="autoZero"/>
        <c:auto val="1"/>
        <c:lblAlgn val="ctr"/>
        <c:lblOffset val="100"/>
        <c:noMultiLvlLbl val="0"/>
      </c:catAx>
      <c:valAx>
        <c:axId val="412505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673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A238-A184-484F-9D91-6262AE4B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CE91-D72C-4702-BC59-8A48CB49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BB1A-0E5A-4C72-B879-3AF0A8F2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2068-DCD1-45E2-A456-723DB3AFB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58E6-0559-47FF-AF57-A6C96938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58F9-BF1F-4902-ABA1-E5713F83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2951-F22C-49ED-BBB0-BBFE52A5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32F6-9E9B-4250-A296-2E6DAD01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FA59-D464-4EFC-85A6-3699AFE4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002C-E3B4-40FF-8CC0-83FCFC43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57CF-5C04-4AB0-A395-022B7D69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5F10-611E-4354-A439-B3D104C4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BEF4F-EA7B-401A-A381-B7FDF8229B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