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9294"/>
        <c:axId val="66413291"/>
      </c:barChart>
      <c:catAx>
        <c:axId val="1059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3291"/>
        <c:crosses val="autoZero"/>
        <c:auto val="1"/>
        <c:lblAlgn val="ctr"/>
        <c:lblOffset val="100"/>
        <c:noMultiLvlLbl val="0"/>
      </c:catAx>
      <c:valAx>
        <c:axId val="66413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9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15F-C139-4DF5-8AD8-BACDCB08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59A-6CEE-47DA-BD55-CEA1079B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EC4-1355-4C0A-B43D-B391F5FE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26A-0FBE-40A7-BB27-0E6A1FEF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3DF-2FBD-4783-BF40-0BF5262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C06-78DA-4935-BA42-9B17C67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2E6-8FFC-4935-B813-3FC1179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B28-2FE7-40C7-A520-E048EDA6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78B-DCBE-49A0-A366-F0ECB149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F93-0E31-4C06-B766-287A02F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62A-3D10-4A46-B3F7-607C0BB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A46-760C-46D4-A901-A5C585E5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D711-E819-4107-B5E5-F5D56CEA9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