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28756"/>
        <c:axId val="38987589"/>
      </c:barChart>
      <c:catAx>
        <c:axId val="95528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87589"/>
        <c:crosses val="autoZero"/>
        <c:auto val="1"/>
        <c:lblAlgn val="ctr"/>
        <c:lblOffset val="100"/>
        <c:noMultiLvlLbl val="0"/>
      </c:catAx>
      <c:valAx>
        <c:axId val="38987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28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624-DF09-4E31-9486-F473D86B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219-CD26-4C33-B9CB-607D18C3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EF6-7C60-43B8-AC8A-12F23EE0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330-CAC9-4E4F-B91B-BECA9DDA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F1E-CEBD-4E92-8B19-705D2296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5EF-AF67-4E80-B9CE-CE4D7E92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5F0-F271-4A6D-ABA3-265F6891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309-7C21-4E33-B85F-020A74AF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60C-3421-4C1D-B94F-5BCA135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C7A-2796-4CB8-9C10-7687868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786-3C71-426B-9D04-1F836483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1CE-2AFB-4C84-9B7B-10BD8A35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C457E-A397-42C2-AFFA-EDB06C499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