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013036"/>
        <c:axId val="48677945"/>
      </c:barChart>
      <c:catAx>
        <c:axId val="850130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77945"/>
        <c:crosses val="autoZero"/>
        <c:auto val="1"/>
        <c:lblAlgn val="ctr"/>
        <c:lblOffset val="100"/>
        <c:noMultiLvlLbl val="0"/>
      </c:catAx>
      <c:valAx>
        <c:axId val="486779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130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A182-BA45-4A40-8694-EC2576028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4AEB-6992-4301-A1F1-C2F54AE0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20F1-3E00-4477-B0DD-EACFCEB0F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84C2-9401-4832-9EEA-5C4FC0B20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EB1B-4CF6-4EF9-8965-78CDC3D4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D3B0-6C60-45EA-96E4-2DF6B631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3AB2-8606-4D7B-90B4-C763ABB7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6E85-BCCB-4CEA-9964-FB632F6E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4975-01D9-4B11-A357-E14AEBE5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244E-22F9-4B0D-9461-ED9BC7C1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84E2-7E19-4EFE-A0AF-C67A0567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4775-AB18-430B-BA92-E12353CF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CB5FB-90FC-4CF4-B22B-D3A3851C33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