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31604"/>
        <c:axId val="94874702"/>
      </c:barChart>
      <c:catAx>
        <c:axId val="187316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74702"/>
        <c:crosses val="autoZero"/>
        <c:auto val="1"/>
        <c:lblAlgn val="ctr"/>
        <c:lblOffset val="100"/>
        <c:noMultiLvlLbl val="0"/>
      </c:catAx>
      <c:valAx>
        <c:axId val="94874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316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3FA-5118-419E-83F6-16083B22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873-916C-4809-B859-88B6249F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B37-9CFF-4999-9E2E-728FC6AB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70D-E7AA-498C-B22C-0177DA0E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B3F4-0CCD-40CD-9580-34BF2DCE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AC28-EEC6-4AB4-B9BC-C0A1B6E3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C8A6-7095-4BA0-9072-DCD26749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419-97F3-4822-A574-D622C758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6B6-9523-46D8-9020-C27DD001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798-A018-4A21-8C0F-0F47D345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7C9-2B4D-4464-B8D8-9EC7FEAB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0AE-8CBC-4384-84C8-6761A9EF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108E1-B2F2-4D57-8A1D-B06B49B6FD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