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49011"/>
        <c:axId val="35423530"/>
      </c:barChart>
      <c:catAx>
        <c:axId val="67349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23530"/>
        <c:crosses val="autoZero"/>
        <c:auto val="1"/>
        <c:lblAlgn val="ctr"/>
        <c:lblOffset val="100"/>
        <c:noMultiLvlLbl val="0"/>
      </c:catAx>
      <c:valAx>
        <c:axId val="35423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49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7D0-A88D-485D-8501-50F0B720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741-BFF5-47A8-8C0C-7A7D7C3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69D-12B7-4E81-99F1-43FB43FE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011-94BB-4CF6-95D6-356B8963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665-124B-447F-8246-31B5C9E0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F1E-376C-44DE-9972-3EFA4207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BFD-5C99-4427-9A75-FA44F0C0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E49-D930-4C49-A225-8A8231BE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157-B9EE-4A09-8251-A0AF969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E96-0694-4E6C-AC0C-699761F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160-FAE0-4C6F-883F-0375E454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635-CC24-4741-941E-14BC1C0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D2E49-77CA-42E7-839C-B55034EABC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