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98697"/>
        <c:axId val="1535358"/>
      </c:barChart>
      <c:catAx>
        <c:axId val="72398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5358"/>
        <c:crosses val="autoZero"/>
        <c:auto val="1"/>
        <c:lblAlgn val="ctr"/>
        <c:lblOffset val="100"/>
        <c:noMultiLvlLbl val="0"/>
      </c:catAx>
      <c:valAx>
        <c:axId val="1535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98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B6D-C5E3-4CBA-998C-9D3CB267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4E7-1297-4A87-BE28-F8FD9FE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7B9-77E9-49B1-BAC4-028E27B4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D33-52D8-4D1E-B977-A3E84DC7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2A7-F7AC-4807-A133-11E5AA39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917-56B0-4B3C-B077-8A9560A5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C48-7706-4F67-95A5-DE5A024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FC6-A34B-4E63-A938-122C836F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7B0-A669-40B3-A4E7-BC6A3DED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FB2-0DBE-448C-88EE-1DFB1296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884-D292-4902-B160-2FC740B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040-4B98-4C69-99FB-EBCF6FB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0323-2AA9-4260-B5B8-6BB691E516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