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92277"/>
        <c:axId val="82865070"/>
      </c:barChart>
      <c:catAx>
        <c:axId val="17692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65070"/>
        <c:crosses val="autoZero"/>
        <c:auto val="1"/>
        <c:lblAlgn val="ctr"/>
        <c:lblOffset val="100"/>
        <c:noMultiLvlLbl val="0"/>
      </c:catAx>
      <c:valAx>
        <c:axId val="82865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92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386-AADF-49DF-B8B3-819F846F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9F9-D5F1-4D46-A30B-6B0D8E2D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2EA-B37A-4BC6-8146-ADB29B71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62D-9A7E-4131-8677-A6E3AC21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7DE-3EDF-4874-A427-809E9638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D67-79A4-4F88-82B3-4145F040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B9B-4899-479F-AF07-1C6CB6A5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539-6CE0-4E58-9CC5-EF9AA236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180-1D6C-49C6-9240-D51BA888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50B-1483-4828-879F-B88B907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47F-45C5-4E26-91E4-EEC1FF0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A00-FF69-4F03-A98D-7DC3305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64BF4-E503-4424-A415-47CC825D82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