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03911"/>
        <c:axId val="15377981"/>
      </c:barChart>
      <c:catAx>
        <c:axId val="80603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77981"/>
        <c:crosses val="autoZero"/>
        <c:auto val="1"/>
        <c:lblAlgn val="ctr"/>
        <c:lblOffset val="100"/>
        <c:noMultiLvlLbl val="0"/>
      </c:catAx>
      <c:valAx>
        <c:axId val="15377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03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750-F3F4-47B3-B5C9-2F383F62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401-D16A-498E-9670-E11B6DB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486-74D1-44C5-9E92-C0AA95A5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119-4F9D-4C3E-963C-F8CC05A6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D63-A7FA-40E1-A503-9B6CD60F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FB8-9D03-46F7-ABE7-B311B7C1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458-12E3-4F81-A952-ED28B8CD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93C-9AAA-47ED-8A6C-DABADEDA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F24-1A49-4CD7-A9B0-31B1D485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1D9-E0C4-46BB-8F62-DEBF5778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B94-1F3C-435F-8C9E-A341910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326-8089-4B54-8205-BC0DE0CE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3A89D-AE0C-4336-92EF-CE98877542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