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36094"/>
        <c:axId val="46077022"/>
      </c:barChart>
      <c:catAx>
        <c:axId val="73036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77022"/>
        <c:crosses val="autoZero"/>
        <c:auto val="1"/>
        <c:lblAlgn val="ctr"/>
        <c:lblOffset val="100"/>
        <c:noMultiLvlLbl val="0"/>
      </c:catAx>
      <c:valAx>
        <c:axId val="46077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36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3FE-B331-425C-B5AF-16C69BCB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696-2B0A-4182-BF10-00317DD6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379-AED4-4D2E-B37C-D5CBB6FD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348-367A-41D9-9561-1E4FB6F6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6FD-E440-45C1-97D9-9B826E55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6C6-F13B-4DC7-937D-0ACC30D0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8ED-F82F-42DF-9C1D-D0F6419D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064-462C-4671-966F-26294D96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DEF-0F79-404A-A05E-8BF55E79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61A-2BCE-45F6-88C9-D6F23309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FA1-6818-415F-94FC-54669A35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37F-40D7-4EB9-AE9D-A2A9D760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76E8D-B5BD-45E1-AA7A-ADC90D0394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