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05728"/>
        <c:axId val="50633260"/>
      </c:barChart>
      <c:catAx>
        <c:axId val="95905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3260"/>
        <c:crosses val="autoZero"/>
        <c:auto val="1"/>
        <c:lblAlgn val="ctr"/>
        <c:lblOffset val="100"/>
        <c:noMultiLvlLbl val="0"/>
      </c:catAx>
      <c:valAx>
        <c:axId val="50633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05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884-608A-46E9-AF8D-6BBFB25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B4F-BCFB-42E9-9735-EECC288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564-8B2F-476E-AA39-0FC5C4DF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D30-1833-42D0-B7D5-E31917BE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452-CD3E-432B-B0C9-5523BB89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896-0E3F-4BC8-9EB6-BE3A824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F7A-9CC0-4C1A-B9B4-71EE50E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8B1-B7A9-4DA0-BB54-0CA6BA7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CEB-05EB-4815-86B6-BB30503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C6B-7B27-41EF-B970-687428B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36B-A818-496B-A158-9C25910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259-AC36-4AF6-923B-97D4768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ED75C-5EEE-449D-9FC2-AE197A1ED5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