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61294"/>
        <c:axId val="51199424"/>
      </c:barChart>
      <c:catAx>
        <c:axId val="10861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9424"/>
        <c:crosses val="autoZero"/>
        <c:auto val="1"/>
        <c:lblAlgn val="ctr"/>
        <c:lblOffset val="100"/>
        <c:noMultiLvlLbl val="0"/>
      </c:catAx>
      <c:valAx>
        <c:axId val="51199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61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507-C79C-4385-98A1-101DEA39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7B6-24B6-49AC-BC71-89722090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8CD-AFE7-4DA5-AE77-4E421E76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E06-95C7-421B-A567-85C0B1C7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835-D65D-48AE-A4C4-004C76EC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B7D-F4C5-48FD-BD3F-026BDA13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4D5-470A-4D7A-87E5-BC511B94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5F2-3833-445A-B2C9-4BFA4A7F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3D8-5593-48B9-9CBC-62B4CA19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E77-4233-42DC-977A-985C578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DB5-3416-487D-ABB4-A0B9B442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460-BA45-4797-AD0B-88E8D8A1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3B89F-A5F2-46B6-A9B1-295DF92842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