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579135"/>
        <c:axId val="18381426"/>
      </c:barChart>
      <c:catAx>
        <c:axId val="545791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381426"/>
        <c:crosses val="autoZero"/>
        <c:auto val="1"/>
        <c:lblAlgn val="ctr"/>
        <c:lblOffset val="100"/>
        <c:noMultiLvlLbl val="0"/>
      </c:catAx>
      <c:valAx>
        <c:axId val="183814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5791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3663-A3DF-4DB0-BD84-F2862337E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B6FA-6269-4004-ABFD-3971BB2DC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D464-223C-4482-B7B7-EA2E17E82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0F9A-1B5F-4E2C-B1EA-F4FD189B9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1F56-326B-4184-A140-79E523B8E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5B47-7EBE-4FC9-A7D8-D4130904A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1C91-4289-43EC-A3DF-749A84257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D8C9-EC5B-4B30-AD13-F3DEAC47B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238B-30C9-4C99-878B-E1C48CBFC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8E4D-0A24-4CED-9FB5-A4785509A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9154-5F1D-4DF4-A288-1AF2BDDD0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7392-10C6-4FAD-AADC-9089CDCE2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74F8C7-015A-40C5-8817-C42A3D638E0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