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92813"/>
        <c:axId val="56750546"/>
      </c:barChart>
      <c:catAx>
        <c:axId val="74492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50546"/>
        <c:crosses val="autoZero"/>
        <c:auto val="1"/>
        <c:lblAlgn val="ctr"/>
        <c:lblOffset val="100"/>
        <c:noMultiLvlLbl val="0"/>
      </c:catAx>
      <c:valAx>
        <c:axId val="56750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92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505-D4E1-40E0-9704-28A57E00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255-BAD4-425D-9FAD-E09DBBBB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8BF-F1E1-41F5-AC80-2A0442DF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03D-CDE7-4336-B00D-CD02B9E5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308-47FC-4CDF-B65B-6D4A8E97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2AF-51B1-4374-9036-A60631E6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E32-26C6-4BEA-AEE3-CECB722A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0BF-7882-484F-BE28-3E42154F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D0C-5519-44A9-863F-374D648E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043-D2EB-4561-B379-BB7F3A6B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48B-1038-41AE-97C4-37C10812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6A6-A546-4798-9C8C-3B981067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50A28-4E17-4627-931A-1B7B2B5200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